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205D70-2065-44D3-87D8-197EA89027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4CC3D4-BE61-42D1-B94A-40A6806AB3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Како и во претходните наставни единици, треба да се следи дневниот ред и очекуваните резултати дадени на почетокот на наставната еди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6E59B0-F0ED-49BD-866A-BB70C83A4C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FD37B8-EF10-476B-9EB3-5B5B4BE6F66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3592-0CF5-4FDD-9E21-2E51221E2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98B9-35AA-4F72-B861-6EA95DCF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7EBD-EADB-4DA8-ABF2-30996C38B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BD3C-6E2E-41CA-B0D5-CAD31DF90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19C5-F316-4C5C-9FC1-92F51885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1B18-A2E6-4301-AA6C-4F94CED9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A720-1B8C-47FF-96D4-A63BA00B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412A-17E5-4E63-8BE7-F0CEEFD7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7411-2110-45FE-A688-F3A413AB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6A95-0F93-4314-9D46-A9385603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A8F1-08D9-400A-AA48-B62AFCF5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239F-E118-487D-8171-5EC32BD2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0834F6-1FC7-44FB-84FC-5201D44985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466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898989"/>
                </a:solidFill>
                <a:latin typeface="Calibri"/>
              </a:rPr>
              <a:t>Наставна единица 1.2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898989"/>
                </a:solidFill>
                <a:latin typeface="Calibri"/>
              </a:rPr>
              <a:t>Дневен прегл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4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Обука за органите за спроведување на законот како дел од првата екипа на местото на настано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По предавањето на наставната единица слушателите ќе можа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и идентификуваат областите опфатени со активностите од претходниот ден кои слушателите ги разбрал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и идентификуваат областите за кои слушателите треба уште еднаш да го поминат материјалот за да го постигнат потребното ниво на зна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Очекувани резулта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Дневен ре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434960"/>
            <a:ext cx="851364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3200" spc="-1" strike="noStrike">
                <a:solidFill>
                  <a:srgbClr val="000000"/>
                </a:solidFill>
                <a:latin typeface="Calibri"/>
              </a:rPr>
              <a:t>Теми опфатени со предавањата од првиот д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Отворање на курсот и запознавањ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Вовед во начелата и постапките за електронски доказ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Извори на доказ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3074760" y="45007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5400" spc="-1" strike="noStrike">
                <a:solidFill>
                  <a:srgbClr val="000000"/>
                </a:solidFill>
                <a:latin typeface="Calibri"/>
              </a:rPr>
              <a:t>Прашањ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1:04:42Z</dcterms:created>
  <dc:creator>Nigel Jones</dc:creator>
  <dc:description/>
  <dc:language>en-US</dc:language>
  <cp:lastModifiedBy>Daniela</cp:lastModifiedBy>
  <cp:lastPrinted>2012-02-11T12:03:47Z</cp:lastPrinted>
  <dcterms:modified xsi:type="dcterms:W3CDTF">2013-07-24T23:51:41Z</dcterms:modified>
  <cp:revision>18</cp:revision>
  <dc:subject/>
  <dc:title>Introductory Cybercrime Training for Judges and Prosecutors</dc:title>
</cp:coreProperties>
</file>